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lzipup01.wav" ContentType="audio/x-wav"/>
  <Override PartName="/ppt/media/meepmeep.wav" ContentType="audio/x-wav"/>
  <Override PartName="/ppt/media/fastcar.wav" ContentType="audio/x-wav"/>
  <Override PartName="/ppt/media/highchime.wav" ContentType="audio/x-wav"/>
  <Override PartName="/ppt/media/jetfly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683-7C87-4908-9AB0-CA32E3AC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028-6320-493C-9255-E79F8063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E7A-FD5F-47B6-B615-0A8615DE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A19-1FBE-47F5-B313-B8B309DD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974-CE46-4E00-98CF-C91340BB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300-63CB-485C-95D7-34A6AD65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18C-6CA3-4425-9004-1F53C165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C48-C693-4BAA-97FD-F783BED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034-93A1-45AC-9312-F427663F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68F-F07A-4ADA-86FD-431453F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265-60FA-4F1C-BE6B-53D4EC69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83C-A214-405B-89F4-F764540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294E-B7F8-4463-BC6F-AEC19C925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l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lzipup01.wav"/><Relationship Id="rId13" Type="http://schemas.openxmlformats.org/officeDocument/2006/relationships/audio" Target="../media/meepmeep.wav"/><Relationship Id="rId14" Type="http://schemas.openxmlformats.org/officeDocument/2006/relationships/audio" Target="../media/zapbig0g.wav"/><Relationship Id="rId15" Type="http://schemas.openxmlformats.org/officeDocument/2006/relationships/audio" Target="../media/lzipup01.wav"/><Relationship Id="rId16" Type="http://schemas.openxmlformats.org/officeDocument/2006/relationships/audio" Target="../media/fastcar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l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lzipup01.wav"/><Relationship Id="rId16" Type="http://schemas.openxmlformats.org/officeDocument/2006/relationships/audio" Target="../media/fastcar.wav"/><Relationship Id="rId17" Type="http://schemas.openxmlformats.org/officeDocument/2006/relationships/audio" Target="../media/zapbig0g.wav"/><Relationship Id="rId18" Type="http://schemas.openxmlformats.org/officeDocument/2006/relationships/audio" Target="../media/lzipup01.wav"/><Relationship Id="rId19" Type="http://schemas.openxmlformats.org/officeDocument/2006/relationships/audio" Target="../media/zapbig0g.wav"/><Relationship Id="rId20" Type="http://schemas.openxmlformats.org/officeDocument/2006/relationships/audio" Target="../media/jetflyby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meepmeep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jetflyby2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2880" y="1397160"/>
          <a:ext cx="8506080" cy="3240000"/>
        </p:xfrm>
        <a:graphic>
          <a:graphicData uri="http://schemas.openxmlformats.org/drawingml/2006/table">
            <a:tbl>
              <a:tblPr/>
              <a:tblGrid>
                <a:gridCol w="2394000"/>
                <a:gridCol w="6112080"/>
              </a:tblGrid>
              <a:tr h="1079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 of the data divided by the number of te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 number when data is in ord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frequent 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62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. Find the mean, median, and mode of the foll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82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45, 50, 50, 40, 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9916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276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580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120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928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360" y="2971800"/>
            <a:ext cx="13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592280" y="2963880"/>
                <a:ext cx="1066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765520" y="2963880"/>
                <a:ext cx="852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62280" y="2979720"/>
                <a:ext cx="1741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14200" y="3886200"/>
            <a:ext cx="18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di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635280" y="3863880"/>
                <a:ext cx="12445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246480" y="2027160"/>
            <a:ext cx="884160" cy="7160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4200" y="4800600"/>
            <a:ext cx="18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635280" y="4778280"/>
                <a:ext cx="12445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389480" y="2759040"/>
            <a:ext cx="1477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animMotion origin="layout" path="M 0 0 L -0.3533 0.13101 E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animMotion origin="layout" path="M -2.77778E-006 -4.44444E-006 L 0.01997 0.13102 E">
                                      <p:cBhvr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animMotion origin="layout" path="M 5.55556E-007 -4.44444E-006 L -0.25504 0.12871 E">
                                      <p:cBhvr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animMotion origin="layout" path="M 5.55556E-007 -4.44444E-006 L 0.13003 0.13102 E">
                                      <p:cBhvr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3.88889E-006 -4.44444E-006 L 0.12829 0.13334 E">
                                      <p:cBhvr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72880" y="1397160"/>
          <a:ext cx="8506080" cy="3220920"/>
        </p:xfrm>
        <a:graphic>
          <a:graphicData uri="http://schemas.openxmlformats.org/drawingml/2006/table">
            <a:tbl>
              <a:tblPr/>
              <a:tblGrid>
                <a:gridCol w="2394000"/>
                <a:gridCol w="6112080"/>
              </a:tblGrid>
              <a:tr h="1079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 of the data divided by the number of te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 number when data is in ord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frequent 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72880" y="4618080"/>
            <a:ext cx="8506080" cy="1019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618080"/>
            <a:ext cx="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080" y="475452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1040" y="4573440"/>
            <a:ext cx="61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that is much higher or lower than the 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5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. Find an outlier and tell how it affects the d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09760" y="1146240"/>
            <a:ext cx="569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9, 10, 12, 13, 8, 9, 31,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343400"/>
            <a:ext cx="13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74720" y="4335480"/>
                <a:ext cx="960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95760" y="4335480"/>
                <a:ext cx="852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27440" y="4351320"/>
                <a:ext cx="1670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44440" y="5257800"/>
            <a:ext cx="18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di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718080" y="5265720"/>
                <a:ext cx="1385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44440" y="6172200"/>
            <a:ext cx="18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701880" y="6149880"/>
                <a:ext cx="92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486080" y="193500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8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33640" y="193356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9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14680" y="193356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9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62240" y="193356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9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11600" y="19335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10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65520" y="193356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12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33840" y="1935000"/>
            <a:ext cx="98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13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72280" y="1935000"/>
            <a:ext cx="96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3687840"/>
            <a:ext cx="9144000" cy="3475080"/>
            <a:chOff x="0" y="3687840"/>
            <a:chExt cx="9144000" cy="3475080"/>
          </a:xfrm>
        </p:grpSpPr>
        <p:sp>
          <p:nvSpPr>
            <p:cNvPr id="87" name=""/>
            <p:cNvSpPr/>
            <p:nvPr/>
          </p:nvSpPr>
          <p:spPr>
            <a:xfrm>
              <a:off x="2776680" y="368784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With Outli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7400" y="3732480"/>
              <a:ext cx="330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Without Outli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08800" y="3687840"/>
              <a:ext cx="0" cy="347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429732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86280" y="4411800"/>
                <a:ext cx="747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524640" y="4411800"/>
                <a:ext cx="887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416720" y="4427640"/>
                <a:ext cx="1171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418520" y="5311800"/>
                <a:ext cx="92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434360" y="6226200"/>
                <a:ext cx="92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246480" y="2606760"/>
            <a:ext cx="118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895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outlier 31 raised the mean 2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9920" y="1935000"/>
            <a:ext cx="625680" cy="7160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animMotion origin="layout" path="M 0 0 C 0.01597 0.03172 0.03195 0.06366 0.03004 0.08218 C 0.02813 0.1007 0.00556 0.10325 -0.01163 0.11112 C -0.02882 0.11899 -0.03298 0.12848 -0.07326 0.12894 C -0.11354 0.1294 -0.1941 0.11482 -0.2533 0.11343 C -0.3125 0.11204 -0.39184 0.11482 -0.4283 0.11991 C -0.46475 0.125 -0.46111 0.10325 -0.4717 0.14445 C -0.48229 0.18565 -0.49219 0.3007 -0.49166 0.36667 C -0.49114 0.43264 -0.51094 0.51644 -0.46823 0.54005 C -0.42552 0.56366 -0.29844 0.53519 -0.23489 0.5088 C -0.17135 0.48241 -0.12361 0.39653 -0.08663 0.38218 C -0.04965 0.36783 -0.02864 0.38936 -0.01337 0.42223 C 0.00191 0.4551 -0.02153 0.56667 0.00504 0.5801 C 0.0316 0.59352 0.11302 0.53565 0.1467 0.50232 C 0.18038 0.46899 0.18368 0.43264 0.20677 0.3801 C 0.22986 0.32755 0.24514 0.23149 0.28507 0.18658 C 0.325 0.14167 0.38577 0.12639 0.4467 0.11112 E">
                                      <p:cBhvr>
                                        <p:cTn id="26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5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3. Which measures of central tendency best describes each situation?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6956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. average hours of sleep per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36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cause you can add them up and div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30672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 most popular color of shi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08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, because they are not numbers that can be ad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498636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. times school buses arrive at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72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, because with times it is best to find the midd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3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ge 134, 3 – 3 #1-4, 6-20 ev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22T13:31:37Z</dcterms:modified>
  <cp:revision>53</cp:revision>
  <dc:subject/>
  <dc:title>Slide 1</dc:title>
</cp:coreProperties>
</file>